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BEEC2-354E-4C02-AC96-98AE718B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200" spc="-1" strike="noStrike">
              <a:solidFill>
                <a:schemeClr val="dk1"/>
              </a:solidFill>
              <a:latin typeface="Calibri"/>
              <a:ea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8A3A706-8B28-41C8-8041-234C3401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200" spc="-1" strike="noStrike">
              <a:solidFill>
                <a:schemeClr val="dk1"/>
              </a:solidFill>
              <a:latin typeface="Calibri"/>
              <a:ea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332222B-D567-4F38-9FF0-9AEA1D42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348-BFB4-4593-815D-16F6A3B6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801-F3BC-4FC1-9B89-A396D449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9A7-BD82-439E-892A-FCCAC19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F46-8487-4909-B12A-C8C5A7A0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ECDB-FA1D-40CF-8983-0F141BC3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8D2-95FC-40D0-8331-CB47ED53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924B-CE68-4ED7-B811-1D14B178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A08D-2776-4DB4-BAD7-BFF4362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701-BF19-4DB8-B287-622F9A59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C57-A04E-4B4D-A45F-E5344CCA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5597-9E38-4162-BE9C-DF47FC5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D89-A5A8-42D3-9677-5E9C097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A78D-4273-4838-B6CF-E351C81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1F6-120D-4FBD-8F81-36FAF6F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EFF-EB79-4AEE-AD02-7F093C0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7927-FE78-4352-8897-2AC9D9A5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789-EA04-4DBC-9A78-9F2891CA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E18A-B40F-4711-A19A-D3299E81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BD05-A42B-4513-8411-55DA9FA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2BE3-E74F-4F62-823E-D3D2E17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7D1A-8959-41A6-86B6-B871BF7D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7391-4894-4B83-98EC-2DC4B8C7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6A6-4312-4AFA-9D77-9640B44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F62A-5F7D-47D6-915B-A829B199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A097-CD06-4E7F-B4E0-85147DEA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0C0A-DB0F-4F40-A0CB-70AE756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DFEA-33E3-4037-8EA6-028376F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0337-D89A-42D5-B202-66DFE7E1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4124-2FF6-4C56-95B0-7B823864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5D0F-704D-4ADE-9D25-EE0F6908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E2FA-63D8-4E6F-A451-0A9E7A9C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C929-2DBD-4EBA-A249-7328705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7737-1E2A-4951-AD39-E60195A5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8A9-08E4-4F00-9DDD-17549043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1B1A-3D5A-469A-9867-C3A9B96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AC84-B71A-4062-B2EA-324BC33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C9BF-57F5-4C34-AF68-FC17C55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5865-E337-4464-8DA4-B1E9F0FF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630A-96E2-4119-8B8C-30EA347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8368-1792-4719-BE71-47B53F6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F7B0-605B-4ED5-822D-932E2C9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8201-D44F-4DD8-A0C1-F11AE232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2C29-E75F-4D33-9CCC-3B5E4678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6754-4B69-447F-9874-FE897593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03B-A1BE-4129-9AA7-24FF761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DD22-9AD0-4848-86E2-4781371D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4878-21D2-46D7-9DCA-F4CCD95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ACBF-52B1-4FBD-9B60-82759D04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C951-32B3-4B30-B1F2-7CF70DB9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3649-F77C-44B0-B2F3-6E451D3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0179-A1D8-4CF2-A0BC-443425E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79E5E-CB73-43B6-AC40-45686BB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D80F-B0FD-48BD-9BA9-36D8982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9CB9-0E81-42CA-B5D6-BA0315C5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FCAD-C221-4B0D-A7E2-EC195E5B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ABF-EF62-427B-9326-D3E18FD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73BE-636C-4166-96EF-B26D458C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BD0-75A0-4D16-B3B9-270BB14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ECE-CB0B-4396-BC86-ED4E2BF2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EA-0EB0-415D-AA58-0CBBC8E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F60CE16-166C-47CC-A63E-5CF83D00B2BE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A5DF8D7-05F6-4A96-B1B1-A0E689B93A7D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058040" cy="27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4360" y="3928680"/>
            <a:ext cx="853416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marL="108000" indent="-81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81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24000" indent="-72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32000" indent="-54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40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648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56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84360" y="4766760"/>
            <a:ext cx="85341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07360" indent="-1555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555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080" indent="-1382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9440" indent="-1036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680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4416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152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6611143-C581-49B6-B425-FA173BF14802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058040" cy="27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4360" y="3928680"/>
            <a:ext cx="853416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marL="108000" indent="-81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81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24000" indent="-72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32000" indent="-54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40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648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56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84360" y="4766760"/>
            <a:ext cx="85341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07360" indent="-1555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555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080" indent="-1382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9440" indent="-1036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680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4416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152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9126204-158E-4788-9A35-749EC6364BEC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3986FFB-7981-48B1-B327-5A2EC36FE039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bit.ly/ignitechangetshirt" TargetMode="External"/><Relationship Id="rId3" Type="http://schemas.openxmlformats.org/officeDocument/2006/relationships/hyperlink" Target="mailto:secretary@34dems.org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drive.google.com/file/d/1eEHicRtXSh82u1CEGg_bQtXYvTCJYTdM/view" TargetMode="External"/><Relationship Id="rId3" Type="http://schemas.openxmlformats.org/officeDocument/2006/relationships/hyperlink" Target="https://www.34dems.org/wp-content/uploads/2020/02/02-12-2020-General-Meeting-Minutes.pdf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drive.google.com/file/d/1eEHicRtXSh82u1CEGg_bQtXYvTCJYTdM/view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photos.google.com/share/AF1QipMbomUufFAjYwGL8pjlyD9TSImc7V--n6yzq1i-iYnlejtgFIpTjdDjXsV9rhKc9w?key=cnRwNURkMTBPdlQwZkpCMjZPUHNWQWxROV9xMDlB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Google Shape;102;p1" descr=""/>
          <p:cNvPicPr/>
          <p:nvPr/>
        </p:nvPicPr>
        <p:blipFill>
          <a:blip r:embed="rId1"/>
          <a:stretch/>
        </p:blipFill>
        <p:spPr>
          <a:xfrm>
            <a:off x="643320" y="1248120"/>
            <a:ext cx="10904760" cy="43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Google Shape;172;p10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Google Shape;173;p10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8880" y="83232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Candidates for </a:t>
            </a:r>
            <a:br>
              <a:rPr sz="9600"/>
            </a:b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Lieutenant Governo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Google Shape;179;p11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180;p11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PCO Confirmations</a:t>
            </a:r>
            <a:br>
              <a:rPr sz="60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Google Shape;187;p12" descr=""/>
          <p:cNvPicPr/>
          <p:nvPr/>
        </p:nvPicPr>
        <p:blipFill>
          <a:blip r:embed="rId1"/>
          <a:srcRect l="0" t="30199" r="26786" b="0"/>
          <a:stretch/>
        </p:blipFill>
        <p:spPr>
          <a:xfrm>
            <a:off x="475560" y="643320"/>
            <a:ext cx="4382280" cy="5570640"/>
          </a:xfrm>
          <a:prstGeom prst="rect">
            <a:avLst/>
          </a:prstGeom>
          <a:ln w="0">
            <a:noFill/>
          </a:ln>
        </p:spPr>
      </p:pic>
      <p:sp>
        <p:nvSpPr>
          <p:cNvPr id="253" name="Google Shape;188;p12"/>
          <p:cNvSpPr/>
          <p:nvPr/>
        </p:nvSpPr>
        <p:spPr>
          <a:xfrm>
            <a:off x="5078160" y="0"/>
            <a:ext cx="67388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Order your </a:t>
            </a:r>
            <a:br>
              <a:rPr sz="4840"/>
            </a:b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IGNITE CHANGE </a:t>
            </a:r>
            <a:br>
              <a:rPr sz="4840"/>
            </a:b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34</a:t>
            </a:r>
            <a:r>
              <a:rPr b="0" lang="en-US" sz="4839" spc="-1" strike="noStrike" baseline="30000">
                <a:solidFill>
                  <a:schemeClr val="dk1"/>
                </a:solidFill>
                <a:latin typeface="Garamond"/>
                <a:ea typeface="Garamond"/>
              </a:rPr>
              <a:t>th</a:t>
            </a: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 District Dems T-Shirt! </a:t>
            </a:r>
            <a:endParaRPr b="0" lang="en-US" sz="48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30" spc="-1" strike="noStrike">
                <a:solidFill>
                  <a:schemeClr val="dk1"/>
                </a:solidFill>
                <a:latin typeface="Garamond"/>
                <a:ea typeface="Garamond"/>
              </a:rPr>
              <a:t>$25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959" spc="-1" strike="noStrike">
                <a:solidFill>
                  <a:schemeClr val="dk1"/>
                </a:solidFill>
                <a:latin typeface="Garamond"/>
                <a:ea typeface="Garamond"/>
              </a:rPr>
              <a:t>Available in </a:t>
            </a:r>
            <a:r>
              <a:rPr b="0" lang="en-US" sz="3630" spc="-1" strike="noStrike">
                <a:solidFill>
                  <a:schemeClr val="dk1"/>
                </a:solidFill>
                <a:latin typeface="Garamond"/>
                <a:ea typeface="Garamond"/>
              </a:rPr>
              <a:t>S-M-L-XL-2XL-3XL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3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2"/>
              </a:rPr>
              <a:t>https://bit.ly/ignitechangetshirt</a:t>
            </a:r>
            <a:r>
              <a:rPr b="0" lang="en-US" sz="3630" spc="-1" strike="noStrike">
                <a:solidFill>
                  <a:srgbClr val="4cc9f6"/>
                </a:solidFill>
                <a:latin typeface="Garamond"/>
                <a:ea typeface="Garamond"/>
              </a:rPr>
              <a:t> or email </a:t>
            </a:r>
            <a:r>
              <a:rPr b="0" lang="en-US" sz="363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3"/>
              </a:rPr>
              <a:t>secretary@34dems.org</a:t>
            </a:r>
            <a:r>
              <a:rPr b="0" lang="en-US" sz="3630" spc="-1" strike="noStrike">
                <a:solidFill>
                  <a:srgbClr val="4cc9f6"/>
                </a:solidFill>
                <a:latin typeface="Garamond"/>
                <a:ea typeface="Garamond"/>
              </a:rPr>
              <a:t> to </a:t>
            </a:r>
            <a:r>
              <a:rPr b="0" lang="en-US" sz="3630" spc="-1" strike="noStrike">
                <a:solidFill>
                  <a:srgbClr val="fefefe"/>
                </a:solidFill>
                <a:latin typeface="Calibri"/>
                <a:ea typeface="Calibri"/>
              </a:rPr>
              <a:t>arrange delivery. 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oogle Shape;194;p13"/>
          <p:cNvSpPr/>
          <p:nvPr/>
        </p:nvSpPr>
        <p:spPr>
          <a:xfrm>
            <a:off x="475560" y="0"/>
            <a:ext cx="10909800" cy="685764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Google Shape;195;p1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56" name="Google Shape;196;p13"/>
          <p:cNvSpPr/>
          <p:nvPr/>
        </p:nvSpPr>
        <p:spPr>
          <a:xfrm>
            <a:off x="3045240" y="2043720"/>
            <a:ext cx="610488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Adjou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Google Shape;107;p2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oogle Shape;108;p2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09;p2">
            <a:hlinkClick r:id="rId2"/>
          </p:cNvPr>
          <p:cNvSpPr/>
          <p:nvPr/>
        </p:nvSpPr>
        <p:spPr>
          <a:xfrm>
            <a:off x="804600" y="354600"/>
            <a:ext cx="106344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70000"/>
              </a:lnSpc>
              <a:tabLst>
                <a:tab algn="l" pos="0"/>
              </a:tabLst>
            </a:pPr>
            <a:r>
              <a:rPr b="1" lang="en-US" sz="6569" spc="-1" strike="noStrike">
                <a:solidFill>
                  <a:srgbClr val="ffffff"/>
                </a:solidFill>
                <a:latin typeface="Garamond"/>
                <a:ea typeface="Garamond"/>
              </a:rPr>
              <a:t>February Meeting Minutes</a:t>
            </a:r>
            <a:endParaRPr b="0" lang="en-US" sz="656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611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3"/>
              </a:rPr>
              <a:t>https://www.34dems.org/wp-content/uploads/2020/02/02-12-2020-General-Meeting-Minutes.pdf</a:t>
            </a:r>
            <a:endParaRPr b="0" lang="en-US" sz="61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611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endParaRPr b="0" lang="en-US" sz="61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Google Shape;114;p3"/>
          <p:cNvSpPr/>
          <p:nvPr/>
        </p:nvSpPr>
        <p:spPr>
          <a:xfrm>
            <a:off x="0" y="0"/>
            <a:ext cx="6081840" cy="6857640"/>
          </a:xfrm>
          <a:prstGeom prst="rect">
            <a:avLst/>
          </a:prstGeom>
          <a:solidFill>
            <a:schemeClr val="l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Google Shape;115;p3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oogle Shape;116;p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Google Shape;117;p3">
            <a:hlinkClick r:id="rId2"/>
          </p:cNvPr>
          <p:cNvSpPr/>
          <p:nvPr/>
        </p:nvSpPr>
        <p:spPr>
          <a:xfrm>
            <a:off x="640080" y="2053800"/>
            <a:ext cx="36687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Google Shape;118;p3"/>
          <p:cNvSpPr/>
          <p:nvPr/>
        </p:nvSpPr>
        <p:spPr>
          <a:xfrm>
            <a:off x="4033080" y="49964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oogle Shape;119;p3"/>
          <p:cNvSpPr/>
          <p:nvPr/>
        </p:nvSpPr>
        <p:spPr>
          <a:xfrm>
            <a:off x="5597280" y="920520"/>
            <a:ext cx="61761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00 pm - Call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Opening Ceremonies - Chris Porter, Reflections on the Killing of George Floyd, Moment of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VIP Acknowledg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doption of Februar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doption of Age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15 pm - The Movement for Police Refor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 -  Andre Taylor, founder of Not This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45 pm - How to Get Out the Vote i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55 pm - How to Virtual Phone Bank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 Phone bank training and questions and answers- Cat Floate, King County Field Director, Washington State Democr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8:25 pm - Meet the Democratic Candidates for Lt. Gover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8:45 pm – Precinct Committee Officers Confi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9:00 pm - Adjo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Google Shape;124;p4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Google Shape;125;p4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  <a:ea typeface="Garamond"/>
              </a:rPr>
              <a:t>Andre Tayl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oogle Shape;131;p5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Google Shape;132;p5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  <a:ea typeface="Garamond"/>
              </a:rPr>
              <a:t>2020 GOT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Google Shape;138;p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oogle Shape;139;p6"/>
          <p:cNvSpPr/>
          <p:nvPr/>
        </p:nvSpPr>
        <p:spPr>
          <a:xfrm flipH="1">
            <a:off x="5842800" y="1067400"/>
            <a:ext cx="27878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1600" y="334440"/>
            <a:ext cx="10058040" cy="11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34</a:t>
            </a:r>
            <a:r>
              <a:rPr b="0" lang="en-US" sz="4408" spc="-1" strike="noStrike" baseline="30000">
                <a:solidFill>
                  <a:schemeClr val="dk1"/>
                </a:solidFill>
                <a:latin typeface="Garamond"/>
                <a:ea typeface="Garamond"/>
              </a:rPr>
              <a:t>th</a:t>
            </a: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 Virtual Phone Banking</a:t>
            </a:r>
            <a:br>
              <a:rPr sz="3960"/>
            </a:b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1600" y="1250280"/>
            <a:ext cx="11001960" cy="39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Cat Floate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Coordinated Campaign Regional Field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Nick Bonazza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PCO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Max Brown, Leah Griffin, Colleen Hinton, Carla Rogers and Jeff Sbaih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PCO L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Garamond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  <a:ea typeface="Garamond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  <a:ea typeface="Garamond"/>
              </a:rPr>
              <a:t>Starting week of July 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4360" y="5029200"/>
            <a:ext cx="8534160" cy="11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dk1"/>
                </a:solidFill>
                <a:latin typeface="Garamond"/>
                <a:ea typeface="Garamond"/>
              </a:rPr>
              <a:t>INTERESTED? SIGN UP FOR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4cc9f6"/>
                </a:solidFill>
                <a:uFillTx/>
                <a:latin typeface="Garamond"/>
                <a:ea typeface="Garamond"/>
              </a:rPr>
              <a:t>https://bit.ly/34thPhone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Google Shape;143;p6" descr=""/>
          <p:cNvPicPr/>
          <p:nvPr/>
        </p:nvPicPr>
        <p:blipFill>
          <a:blip r:embed="rId1"/>
          <a:stretch/>
        </p:blipFill>
        <p:spPr>
          <a:xfrm>
            <a:off x="8453880" y="3449520"/>
            <a:ext cx="28468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3840" y="482760"/>
            <a:ext cx="6324480" cy="711000"/>
          </a:xfrm>
          <a:prstGeom prst="rect">
            <a:avLst/>
          </a:prstGeom>
          <a:solidFill>
            <a:srgbClr val="f2f2f2"/>
          </a:solidFill>
          <a:ln w="19080">
            <a:solidFill>
              <a:srgbClr val="595959"/>
            </a:solidFill>
            <a:round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350" spc="-1" strike="noStrike">
                <a:solidFill>
                  <a:srgbClr val="595959"/>
                </a:solidFill>
                <a:latin typeface="Garamond"/>
                <a:ea typeface="Garamond"/>
              </a:rPr>
              <a:t>ADOPT A DISTRICT: 26TH LD</a:t>
            </a:r>
            <a:endParaRPr b="0" lang="en-US" sz="3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433840" y="1498680"/>
            <a:ext cx="6400440" cy="4774680"/>
          </a:xfrm>
          <a:prstGeom prst="rect">
            <a:avLst/>
          </a:prstGeom>
          <a:solidFill>
            <a:schemeClr val="lt1"/>
          </a:solidFill>
          <a:ln w="19080">
            <a:solidFill>
              <a:srgbClr val="595959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In 2018 we elected Emily Randall and FLIPPED the 26th State Senate seat. Now, we need to flip the House se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Carrie Hesch for Pos.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opponent: Jesse Yo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Joy Stanford for Pos.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opponent: Michelle Cald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f486f"/>
                </a:solidFill>
                <a:latin typeface="Garamond"/>
                <a:ea typeface="Garamond"/>
              </a:rPr>
              <a:t>stay tuned for phone bank opportun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oogle Shape;150;p7" descr=""/>
          <p:cNvPicPr/>
          <p:nvPr/>
        </p:nvPicPr>
        <p:blipFill>
          <a:blip r:embed="rId1"/>
          <a:stretch/>
        </p:blipFill>
        <p:spPr>
          <a:xfrm>
            <a:off x="123480" y="3735720"/>
            <a:ext cx="5128920" cy="28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72000" y="565200"/>
            <a:ext cx="6324480" cy="711000"/>
          </a:xfrm>
          <a:prstGeom prst="rect">
            <a:avLst/>
          </a:prstGeom>
          <a:solidFill>
            <a:srgbClr val="f2f2f2"/>
          </a:solidFill>
          <a:ln w="19080">
            <a:solidFill>
              <a:srgbClr val="595959"/>
            </a:solidFill>
            <a:round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720" spc="-1" strike="noStrike">
                <a:solidFill>
                  <a:srgbClr val="595959"/>
                </a:solidFill>
                <a:latin typeface="Garamond"/>
                <a:ea typeface="Garamond"/>
              </a:rPr>
              <a:t>ADOPT A STATE: N.C.</a:t>
            </a:r>
            <a:endParaRPr b="0" lang="en-US" sz="37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433840" y="1498680"/>
            <a:ext cx="6400440" cy="4774680"/>
          </a:xfrm>
          <a:prstGeom prst="rect">
            <a:avLst/>
          </a:prstGeom>
          <a:solidFill>
            <a:schemeClr val="lt1"/>
          </a:solidFill>
          <a:ln w="19080">
            <a:solidFill>
              <a:srgbClr val="595959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North Carolina is critical to flipping the White House -- but they’re also just 6 seats shy of flipping the State House. If we flip the House we can get 500,000 North Carolinian’s access to health care, kick out the trans-phobic legislators, and get teachers a pay rai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Brian Farkas for HD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Frances Jackson for HD 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oogle Shape;158;p8" descr=""/>
          <p:cNvPicPr/>
          <p:nvPr/>
        </p:nvPicPr>
        <p:blipFill>
          <a:blip r:embed="rId1"/>
          <a:stretch/>
        </p:blipFill>
        <p:spPr>
          <a:xfrm>
            <a:off x="169560" y="3419280"/>
            <a:ext cx="5128920" cy="2854080"/>
          </a:xfrm>
          <a:prstGeom prst="rect">
            <a:avLst/>
          </a:prstGeom>
          <a:ln w="0">
            <a:noFill/>
          </a:ln>
        </p:spPr>
      </p:pic>
      <p:pic>
        <p:nvPicPr>
          <p:cNvPr id="241" name="Google Shape;159;p8" descr=""/>
          <p:cNvPicPr/>
          <p:nvPr/>
        </p:nvPicPr>
        <p:blipFill>
          <a:blip r:embed="rId2"/>
          <a:stretch/>
        </p:blipFill>
        <p:spPr>
          <a:xfrm>
            <a:off x="169560" y="565200"/>
            <a:ext cx="51289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Google Shape;164;p9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Google Shape;165;p9"/>
          <p:cNvSpPr/>
          <p:nvPr/>
        </p:nvSpPr>
        <p:spPr>
          <a:xfrm flipH="1">
            <a:off x="5842800" y="1067400"/>
            <a:ext cx="2787840" cy="27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61600" y="334440"/>
            <a:ext cx="100580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ADOPT A STATE -- NORTH CAROLINA</a:t>
            </a:r>
            <a:br>
              <a:rPr sz="3240"/>
            </a:b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1600" y="1250280"/>
            <a:ext cx="11240640" cy="39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Join the PNW Coalition: Code Blue WA, Indivisible Wallingford, Sister District, Common Purpose, and more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chemeClr val="hlink"/>
                </a:solidFill>
                <a:uFillTx/>
                <a:latin typeface="Calibri"/>
                <a:ea typeface="Calibri"/>
                <a:hlinkClick r:id="rId1"/>
              </a:rPr>
              <a:t>https://photos.google.com/share/AF1QipMbomUufFAjYwGL8pjlyD9TSImc7V--n6yzq1i-iYnlejtgFIpTjdDjXsV9rhKc9w?key=cnRwNURkMTBPdlQwZkpCMjZPUHNWQWxROV9xMD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Find phone banking opportunities: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sign up at bit.ly/farkasjackson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i="1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(link is case sensitive)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Trips to NC with Common Purpose: 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email jgoldwarg@gmail.com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0T20:49:49Z</dcterms:created>
  <dc:creator>Gina Topp</dc:creator>
  <dc:description/>
  <dc:language>en-US</dc:language>
  <cp:lastModifiedBy/>
  <cp:revision>0</cp:revision>
  <dc:subject/>
  <dc:title/>
</cp:coreProperties>
</file>