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0FCB6-F11E-4D6D-B2BC-24C1CF958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200" spc="-1" strike="noStrike">
              <a:solidFill>
                <a:schemeClr val="dk1"/>
              </a:solidFill>
              <a:latin typeface="Calibri"/>
              <a:ea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7102E7B-A857-48D8-8C1A-866004A47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200" spc="-1" strike="noStrike">
              <a:solidFill>
                <a:schemeClr val="dk1"/>
              </a:solidFill>
              <a:latin typeface="Calibri"/>
              <a:ea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E88C506-B2F7-42D0-9972-CDA7B138E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84EE-A09A-4DCD-909C-3589344C9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696-E25D-4BB3-A776-9A4972BB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9733-E0C9-4CA3-8577-078E518B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96D-E623-4447-86CB-09E781D06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49AC-7C3F-4E48-9343-5D1511B7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D170-4114-40A0-891D-90FBD2E4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68E1-9CFE-45A3-857D-6108A2A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998C-27F9-41AA-83E8-AE54342F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B322-7A32-4563-98D2-17A8A33E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E986-B73E-4E61-A83B-80CB4C14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80A2-E361-4A71-AA51-7078C446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48A5-5CE9-421C-B251-5BB2791E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709A-8376-4C2E-A378-AD42F987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A77F-C27E-4D9F-B9B9-87BE2DD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3085-ADAF-4DAF-9EB1-589EFF3C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2FEF-262B-4473-AABF-B840DFC5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D797-B362-47C9-A0AC-BF77D0C9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36592-F2E0-458B-ACF0-569F6FA9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A24A1-54EE-4FF0-B4D1-32C47ED5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B177A-97D3-454E-88B4-ABFF9222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581B-CC0E-4F01-94C2-40C724F9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AF51-FFF7-4D79-A568-3208133A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77B-7646-4BE3-93CC-42ADC42F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1451-AF81-4D40-8BDF-A0316DCC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4E13B-2E5A-4B3C-B08B-B061F378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81E14-4E09-4C56-A3B0-04DDAEED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6FF3-BF6E-4DD1-A8E5-35C894C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8EBCA-FD43-402E-BB5B-3EAE5FF1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DF1A9-CBE9-45CA-B242-0D753145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F435-E336-4832-A0AF-CCFE583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737CA-0EF5-4758-936F-6FEDE630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E745-BC43-4C21-AACF-755B7AA7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27EB-19CE-4424-BCD3-EECEC51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B7B-2D17-4CF3-8B24-FE1AE92E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371CC-A9D0-411F-AB7B-69F76BC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2E1C0-AC11-4F70-B0CB-68521321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8FF0-0EA6-4F33-A81E-21F5CCD5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E014-02FD-4E99-A50E-5AE9981C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E0EF-A2ED-4506-973D-37AE01FE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D25D-7304-40CF-80A3-1EBB9A4B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3F9C6-8871-45D0-8A3D-53A64BDA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0884B-7661-4F48-9BEA-EB1110AD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793D-FD1A-4441-9FBD-C44E5D6CA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78257-D8D9-4CE7-9AC7-478C3D47A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3E8-6475-4219-AC4E-0F4B534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7DA5C-5073-4C2E-A40D-FC83EDC9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D0881-DE23-4C24-BF5E-2F0B1648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81F1-AF55-4075-A41E-462F3B26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8AA9F-A379-4F2F-A123-CE773EB0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5FE0C-7981-42C0-A3D4-4E38ADFB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5784-66CC-450C-A8F9-3D8659F5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6A9A-1E9C-495A-B98A-F9BC0BA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926F9-E305-4852-BA98-561AA927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82AB-B8C0-41F2-9C3D-9148CBFE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48CCE-4568-41D1-82C5-3137B8FC1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C707-B5F2-4880-873E-8D5A4F87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52945-B738-4138-92C0-8AE69B7F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E51-9805-443D-9417-3A228EFC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0B7-0E91-4520-B46C-0FC5C018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E01-6E2E-4D99-9363-75C5C99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B100B02-ACE1-4EB1-A63F-DD9D14BB3E93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3E9C1724-3EEB-4984-B815-A2C56D187576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10058040" cy="27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4360" y="3928680"/>
            <a:ext cx="8534160" cy="8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marL="108000" indent="-81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81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24000" indent="-72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32000" indent="-54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40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648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56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84360" y="4766760"/>
            <a:ext cx="853416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07360" indent="-1555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555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2080" indent="-1382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9440" indent="-1036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3680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4416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152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ED594618-FFA2-40C1-8923-9ED4C85236AA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85800"/>
            <a:ext cx="10058040" cy="27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4360" y="3928680"/>
            <a:ext cx="8534160" cy="83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marL="108000" indent="-81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-81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24000" indent="-72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432000" indent="-54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540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648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756000" indent="-54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684360" y="4766760"/>
            <a:ext cx="853416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207360" indent="-1555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720" indent="-1555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22080" indent="-1382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829440" indent="-1036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03680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24416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451520" indent="-1036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9904320" y="6172200"/>
            <a:ext cx="15998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684360" y="6172200"/>
            <a:ext cx="7543440" cy="36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10363320" y="5578560"/>
            <a:ext cx="1141920" cy="66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FE25591-3046-4EA3-85EA-CCDEFE7E106F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672EE5C4-6935-40A3-A0E7-68FAE362D721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bit.ly/ignitechangetshirt" TargetMode="External"/><Relationship Id="rId3" Type="http://schemas.openxmlformats.org/officeDocument/2006/relationships/hyperlink" Target="mailto:secretary@34dems.org" TargetMode="External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drive.google.com/file/d/1eEHicRtXSh82u1CEGg_bQtXYvTCJYTdM/view" TargetMode="External"/><Relationship Id="rId3" Type="http://schemas.openxmlformats.org/officeDocument/2006/relationships/hyperlink" Target="https://www.34dems.org/wp-content/uploads/2020/02/02-12-2020-General-Meeting-Minutes.pdf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drive.google.com/file/d/1eEHicRtXSh82u1CEGg_bQtXYvTCJYTdM/view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photos.google.com/share/AF1QipMbomUufFAjYwGL8pjlyD9TSImc7V--n6yzq1i-iYnlejtgFIpTjdDjXsV9rhKc9w?key=cnRwNURkMTBPdlQwZkpCMjZPUHNWQWxROV9xMDlB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Google Shape;102;p1" descr=""/>
          <p:cNvPicPr/>
          <p:nvPr/>
        </p:nvPicPr>
        <p:blipFill>
          <a:blip r:embed="rId1"/>
          <a:stretch/>
        </p:blipFill>
        <p:spPr>
          <a:xfrm>
            <a:off x="643320" y="1248120"/>
            <a:ext cx="10904760" cy="43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Google Shape;172;p10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Google Shape;173;p10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8880" y="83232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chemeClr val="lt1"/>
                </a:solidFill>
                <a:latin typeface="Garamond"/>
                <a:ea typeface="Garamond"/>
              </a:rPr>
              <a:t>Candidates for </a:t>
            </a:r>
            <a:br>
              <a:rPr sz="9600"/>
            </a:br>
            <a:r>
              <a:rPr b="0" lang="en-US" sz="9600" spc="-1" strike="noStrike">
                <a:solidFill>
                  <a:schemeClr val="lt1"/>
                </a:solidFill>
                <a:latin typeface="Garamond"/>
                <a:ea typeface="Garamond"/>
              </a:rPr>
              <a:t>Lieutenant Governo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Google Shape;179;p11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Google Shape;180;p11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8880" y="124740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0000"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chemeClr val="lt1"/>
                </a:solidFill>
                <a:latin typeface="Garamond"/>
                <a:ea typeface="Garamond"/>
              </a:rPr>
              <a:t>PCO Confirmations</a:t>
            </a:r>
            <a:br>
              <a:rPr sz="60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Google Shape;187;p12" descr=""/>
          <p:cNvPicPr/>
          <p:nvPr/>
        </p:nvPicPr>
        <p:blipFill>
          <a:blip r:embed="rId1"/>
          <a:srcRect l="0" t="30199" r="26786" b="0"/>
          <a:stretch/>
        </p:blipFill>
        <p:spPr>
          <a:xfrm>
            <a:off x="475560" y="643320"/>
            <a:ext cx="4382280" cy="5570640"/>
          </a:xfrm>
          <a:prstGeom prst="rect">
            <a:avLst/>
          </a:prstGeom>
          <a:ln w="0">
            <a:noFill/>
          </a:ln>
        </p:spPr>
      </p:pic>
      <p:sp>
        <p:nvSpPr>
          <p:cNvPr id="253" name="Google Shape;188;p12"/>
          <p:cNvSpPr/>
          <p:nvPr/>
        </p:nvSpPr>
        <p:spPr>
          <a:xfrm>
            <a:off x="5078160" y="0"/>
            <a:ext cx="673884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Order your </a:t>
            </a:r>
            <a:br>
              <a:rPr sz="4840"/>
            </a:b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IGNITE CHANGE </a:t>
            </a:r>
            <a:br>
              <a:rPr sz="4840"/>
            </a:b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34</a:t>
            </a:r>
            <a:r>
              <a:rPr b="0" lang="en-US" sz="4839" spc="-1" strike="noStrike" baseline="30000">
                <a:solidFill>
                  <a:schemeClr val="dk1"/>
                </a:solidFill>
                <a:latin typeface="Garamond"/>
                <a:ea typeface="Garamond"/>
              </a:rPr>
              <a:t>th</a:t>
            </a:r>
            <a:r>
              <a:rPr b="0" lang="en-US" sz="4840" spc="-1" strike="noStrike">
                <a:solidFill>
                  <a:schemeClr val="dk1"/>
                </a:solidFill>
                <a:latin typeface="Garamond"/>
                <a:ea typeface="Garamond"/>
              </a:rPr>
              <a:t> District Dems T-Shirt! </a:t>
            </a:r>
            <a:endParaRPr b="0" lang="en-US" sz="484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30" spc="-1" strike="noStrike">
                <a:solidFill>
                  <a:schemeClr val="dk1"/>
                </a:solidFill>
                <a:latin typeface="Garamond"/>
                <a:ea typeface="Garamond"/>
              </a:rPr>
              <a:t>$25</a:t>
            </a:r>
            <a:endParaRPr b="0" lang="en-US" sz="36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959" spc="-1" strike="noStrike">
                <a:solidFill>
                  <a:schemeClr val="dk1"/>
                </a:solidFill>
                <a:latin typeface="Garamond"/>
                <a:ea typeface="Garamond"/>
              </a:rPr>
              <a:t>Available in </a:t>
            </a:r>
            <a:r>
              <a:rPr b="0" lang="en-US" sz="3630" spc="-1" strike="noStrike">
                <a:solidFill>
                  <a:schemeClr val="dk1"/>
                </a:solidFill>
                <a:latin typeface="Garamond"/>
                <a:ea typeface="Garamond"/>
              </a:rPr>
              <a:t>S-M-L-XL-2XL-3XL</a:t>
            </a:r>
            <a:endParaRPr b="0" lang="en-US" sz="363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30" spc="-1" strike="noStrike" u="sng">
                <a:solidFill>
                  <a:srgbClr val="0563c1"/>
                </a:solidFill>
                <a:uFillTx/>
                <a:latin typeface="Garamond"/>
                <a:ea typeface="Garamond"/>
                <a:hlinkClick r:id="rId2"/>
              </a:rPr>
              <a:t>https://bit.ly/ignitechangetshirt</a:t>
            </a:r>
            <a:r>
              <a:rPr b="0" lang="en-US" sz="3630" spc="-1" strike="noStrike">
                <a:solidFill>
                  <a:srgbClr val="4cc9f6"/>
                </a:solidFill>
                <a:latin typeface="Garamond"/>
                <a:ea typeface="Garamond"/>
              </a:rPr>
              <a:t> or email </a:t>
            </a:r>
            <a:r>
              <a:rPr b="0" lang="en-US" sz="3630" spc="-1" strike="noStrike" u="sng">
                <a:solidFill>
                  <a:srgbClr val="0563c1"/>
                </a:solidFill>
                <a:uFillTx/>
                <a:latin typeface="Garamond"/>
                <a:ea typeface="Garamond"/>
                <a:hlinkClick r:id="rId3"/>
              </a:rPr>
              <a:t>secretary@34dems.org</a:t>
            </a:r>
            <a:r>
              <a:rPr b="0" lang="en-US" sz="3630" spc="-1" strike="noStrike">
                <a:solidFill>
                  <a:srgbClr val="4cc9f6"/>
                </a:solidFill>
                <a:latin typeface="Garamond"/>
                <a:ea typeface="Garamond"/>
              </a:rPr>
              <a:t> to </a:t>
            </a:r>
            <a:r>
              <a:rPr b="0" lang="en-US" sz="3630" spc="-1" strike="noStrike">
                <a:solidFill>
                  <a:srgbClr val="fefefe"/>
                </a:solidFill>
                <a:latin typeface="Calibri"/>
                <a:ea typeface="Calibri"/>
              </a:rPr>
              <a:t>arrange delivery. </a:t>
            </a:r>
            <a:endParaRPr b="0" lang="en-US" sz="363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Google Shape;194;p13"/>
          <p:cNvSpPr/>
          <p:nvPr/>
        </p:nvSpPr>
        <p:spPr>
          <a:xfrm>
            <a:off x="475560" y="0"/>
            <a:ext cx="10909800" cy="685764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Google Shape;195;p1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56" name="Google Shape;196;p13"/>
          <p:cNvSpPr/>
          <p:nvPr/>
        </p:nvSpPr>
        <p:spPr>
          <a:xfrm>
            <a:off x="3045240" y="2043720"/>
            <a:ext cx="6104880" cy="20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  <a:ea typeface="Calibri"/>
              </a:rPr>
              <a:t>Adjou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Google Shape;107;p2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Google Shape;108;p2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oogle Shape;109;p2">
            <a:hlinkClick r:id="rId2"/>
          </p:cNvPr>
          <p:cNvSpPr/>
          <p:nvPr/>
        </p:nvSpPr>
        <p:spPr>
          <a:xfrm>
            <a:off x="804600" y="354600"/>
            <a:ext cx="10634400" cy="45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70000"/>
              </a:lnSpc>
              <a:tabLst>
                <a:tab algn="l" pos="0"/>
              </a:tabLst>
            </a:pPr>
            <a:r>
              <a:rPr b="1" lang="en-US" sz="6569" spc="-1" strike="noStrike">
                <a:solidFill>
                  <a:srgbClr val="ffffff"/>
                </a:solidFill>
                <a:latin typeface="Garamond"/>
                <a:ea typeface="Garamond"/>
              </a:rPr>
              <a:t>February Meeting Minutes</a:t>
            </a:r>
            <a:endParaRPr b="0" lang="en-US" sz="6569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6110" spc="-1" strike="noStrike" u="sng">
                <a:solidFill>
                  <a:srgbClr val="0563c1"/>
                </a:solidFill>
                <a:uFillTx/>
                <a:latin typeface="Garamond"/>
                <a:ea typeface="Garamond"/>
                <a:hlinkClick r:id="rId3"/>
              </a:rPr>
              <a:t>https://www.34dems.org/wp-content/uploads/2020/02/02-12-2020-General-Meeting-Minutes.pdf</a:t>
            </a:r>
            <a:endParaRPr b="0" lang="en-US" sz="611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6110" spc="-1" strike="noStrike">
                <a:solidFill>
                  <a:srgbClr val="ffffff"/>
                </a:solidFill>
                <a:latin typeface="Garamond"/>
                <a:ea typeface="Garamond"/>
              </a:rPr>
              <a:t> </a:t>
            </a:r>
            <a:endParaRPr b="0" lang="en-US" sz="611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Google Shape;114;p3"/>
          <p:cNvSpPr/>
          <p:nvPr/>
        </p:nvSpPr>
        <p:spPr>
          <a:xfrm>
            <a:off x="0" y="0"/>
            <a:ext cx="6081840" cy="6857640"/>
          </a:xfrm>
          <a:prstGeom prst="rect">
            <a:avLst/>
          </a:prstGeom>
          <a:solidFill>
            <a:schemeClr val="l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Google Shape;115;p3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oogle Shape;116;p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220" name="Google Shape;117;p3">
            <a:hlinkClick r:id="rId2"/>
          </p:cNvPr>
          <p:cNvSpPr/>
          <p:nvPr/>
        </p:nvSpPr>
        <p:spPr>
          <a:xfrm>
            <a:off x="640080" y="2053800"/>
            <a:ext cx="366876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90000"/>
              </a:lnSpc>
              <a:tabLst>
                <a:tab algn="l" pos="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Google Shape;118;p3"/>
          <p:cNvSpPr/>
          <p:nvPr/>
        </p:nvSpPr>
        <p:spPr>
          <a:xfrm>
            <a:off x="4033080" y="49964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Google Shape;119;p3"/>
          <p:cNvSpPr/>
          <p:nvPr/>
        </p:nvSpPr>
        <p:spPr>
          <a:xfrm>
            <a:off x="5597280" y="920520"/>
            <a:ext cx="617616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00 pm - Call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Opening Ceremonies - Chris Porter, Reflections on the Killing of George Floyd, Moment of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VIP Acknowledg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doption of Februar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Noto Sans Symbols"/>
              <a:buChar char="∙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Adoption of Agen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15 pm - The Movement for Police Reform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 -  Andre Taylor, founder of Not This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45 pm - How to Get Out the Vote i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7:55 pm - How to Virtual Phone Bank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- Phone bank training and questions and answers- Cat Floate, King County Field Director, Washington State Democra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8:25 pm - Meet the Democratic Candidates for Lt. Gover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8:45 pm – Precinct Committee Officers Confi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Garamond"/>
              </a:rPr>
              <a:t>9:00 pm - Adjo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Google Shape;124;p4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Google Shape;125;p4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8880" y="124740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  <a:ea typeface="Garamond"/>
              </a:rPr>
              <a:t>Andre Taylo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Google Shape;131;p5"/>
          <p:cNvSpPr/>
          <p:nvPr/>
        </p:nvSpPr>
        <p:spPr>
          <a:xfrm>
            <a:off x="0" y="0"/>
            <a:ext cx="12191760" cy="5569920"/>
          </a:xfrm>
          <a:prstGeom prst="rect">
            <a:avLst/>
          </a:prstGeom>
          <a:gradFill rotWithShape="0">
            <a:gsLst>
              <a:gs pos="0">
                <a:srgbClr val="3865b4"/>
              </a:gs>
              <a:gs pos="100000">
                <a:srgbClr val="3a3838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Google Shape;132;p5"/>
          <p:cNvSpPr/>
          <p:nvPr/>
        </p:nvSpPr>
        <p:spPr>
          <a:xfrm>
            <a:off x="0" y="3808800"/>
            <a:ext cx="12191760" cy="3048840"/>
          </a:xfrm>
          <a:custGeom>
            <a:avLst/>
            <a:gdLst>
              <a:gd name="textAreaLeft" fmla="*/ 0 w 12191760"/>
              <a:gd name="textAreaRight" fmla="*/ 12192120 w 12191760"/>
              <a:gd name="textAreaTop" fmla="*/ 0 h 3048840"/>
              <a:gd name="textAreaBottom" fmla="*/ 3049200 h 3048840"/>
            </a:gdLst>
            <a:ahLst/>
            <a:rect l="textAreaLeft" t="textAreaTop" r="textAreaRight" b="textAreaBottom"/>
            <a:pathLst>
              <a:path w="12192000" h="3049325">
                <a:moveTo>
                  <a:pt x="0" y="0"/>
                </a:moveTo>
                <a:lnTo>
                  <a:pt x="12192000" y="0"/>
                </a:lnTo>
                <a:lnTo>
                  <a:pt x="12192000" y="3049325"/>
                </a:lnTo>
                <a:lnTo>
                  <a:pt x="0" y="3049325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8880" y="1247400"/>
            <a:ext cx="10674000" cy="297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  <a:ea typeface="Garamond"/>
              </a:rPr>
              <a:t>2020 GOTV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Google Shape;138;p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Google Shape;139;p6"/>
          <p:cNvSpPr/>
          <p:nvPr/>
        </p:nvSpPr>
        <p:spPr>
          <a:xfrm flipH="1">
            <a:off x="5842800" y="1067400"/>
            <a:ext cx="27878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61600" y="334440"/>
            <a:ext cx="10058040" cy="11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10" spc="-1" strike="noStrike">
                <a:solidFill>
                  <a:schemeClr val="dk1"/>
                </a:solidFill>
                <a:latin typeface="Garamond"/>
                <a:ea typeface="Garamond"/>
              </a:rPr>
              <a:t>34</a:t>
            </a:r>
            <a:r>
              <a:rPr b="0" lang="en-US" sz="4408" spc="-1" strike="noStrike" baseline="30000">
                <a:solidFill>
                  <a:schemeClr val="dk1"/>
                </a:solidFill>
                <a:latin typeface="Garamond"/>
                <a:ea typeface="Garamond"/>
              </a:rPr>
              <a:t>th</a:t>
            </a:r>
            <a:r>
              <a:rPr b="0" lang="en-US" sz="4410" spc="-1" strike="noStrike">
                <a:solidFill>
                  <a:schemeClr val="dk1"/>
                </a:solidFill>
                <a:latin typeface="Garamond"/>
                <a:ea typeface="Garamond"/>
              </a:rPr>
              <a:t> Virtual Phone Banking</a:t>
            </a:r>
            <a:br>
              <a:rPr sz="3960"/>
            </a:b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1600" y="1250280"/>
            <a:ext cx="11001960" cy="39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Cat Floate – </a:t>
            </a: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Coordinated Campaign Regional Field Orga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Nick Bonazza – </a:t>
            </a: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PCO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Max Brown, Leah Griffin, Colleen Hinton, Carla Rogers and Jeff Sbaih – </a:t>
            </a:r>
            <a:r>
              <a:rPr b="0" lang="en-US" sz="3200" spc="-1" strike="noStrike">
                <a:solidFill>
                  <a:schemeClr val="dk1"/>
                </a:solidFill>
                <a:latin typeface="Garamond"/>
                <a:ea typeface="Garamond"/>
              </a:rPr>
              <a:t>PCO L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aramond"/>
                <a:ea typeface="Garamond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  <a:ea typeface="Garamond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Garamond"/>
                <a:ea typeface="Garamond"/>
              </a:rPr>
              <a:t>Starting week of July 6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4360" y="5029200"/>
            <a:ext cx="8534160" cy="11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dk1"/>
                </a:solidFill>
                <a:latin typeface="Garamond"/>
                <a:ea typeface="Garamond"/>
              </a:rPr>
              <a:t>INTERESTED? SIGN UP FOR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rgbClr val="4cc9f6"/>
                </a:solidFill>
                <a:uFillTx/>
                <a:latin typeface="Garamond"/>
                <a:ea typeface="Garamond"/>
              </a:rPr>
              <a:t>https://bit.ly/34thPhone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Google Shape;143;p6" descr=""/>
          <p:cNvPicPr/>
          <p:nvPr/>
        </p:nvPicPr>
        <p:blipFill>
          <a:blip r:embed="rId1"/>
          <a:stretch/>
        </p:blipFill>
        <p:spPr>
          <a:xfrm>
            <a:off x="8453880" y="3449520"/>
            <a:ext cx="28468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433840" y="482760"/>
            <a:ext cx="6324480" cy="711000"/>
          </a:xfrm>
          <a:prstGeom prst="rect">
            <a:avLst/>
          </a:prstGeom>
          <a:solidFill>
            <a:srgbClr val="f2f2f2"/>
          </a:solidFill>
          <a:ln w="19080">
            <a:solidFill>
              <a:srgbClr val="595959"/>
            </a:solidFill>
            <a:round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350" spc="-1" strike="noStrike">
                <a:solidFill>
                  <a:srgbClr val="595959"/>
                </a:solidFill>
                <a:latin typeface="Garamond"/>
                <a:ea typeface="Garamond"/>
              </a:rPr>
              <a:t>ADOPT A DISTRICT: 26TH LD</a:t>
            </a:r>
            <a:endParaRPr b="0" lang="en-US" sz="33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433840" y="1498680"/>
            <a:ext cx="6400440" cy="4774680"/>
          </a:xfrm>
          <a:prstGeom prst="rect">
            <a:avLst/>
          </a:prstGeom>
          <a:solidFill>
            <a:schemeClr val="lt1"/>
          </a:solidFill>
          <a:ln w="19080">
            <a:solidFill>
              <a:srgbClr val="595959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In 2018 we elected Emily Randall and FLIPPED the 26th State Senate seat. Now, we need to flip the House se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Carrie Hesch for Pos.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opponent: Jesse Yo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Joy Stanford for Pos.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opponent: Michelle Caldi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59"/>
              </a:spcBef>
              <a:buNone/>
              <a:tabLst>
                <a:tab algn="l" pos="0"/>
              </a:tabLst>
            </a:pPr>
            <a:r>
              <a:rPr b="0" i="1" lang="en-US" sz="2400" spc="-1" strike="noStrike">
                <a:solidFill>
                  <a:srgbClr val="0f486f"/>
                </a:solidFill>
                <a:latin typeface="Garamond"/>
                <a:ea typeface="Garamond"/>
              </a:rPr>
              <a:t>stay tuned for phone bank opportuniti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oogle Shape;150;p7" descr=""/>
          <p:cNvPicPr/>
          <p:nvPr/>
        </p:nvPicPr>
        <p:blipFill>
          <a:blip r:embed="rId1"/>
          <a:stretch/>
        </p:blipFill>
        <p:spPr>
          <a:xfrm>
            <a:off x="123480" y="3735720"/>
            <a:ext cx="5128920" cy="28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472000" y="565200"/>
            <a:ext cx="6324480" cy="711000"/>
          </a:xfrm>
          <a:prstGeom prst="rect">
            <a:avLst/>
          </a:prstGeom>
          <a:solidFill>
            <a:srgbClr val="f2f2f2"/>
          </a:solidFill>
          <a:ln w="19080">
            <a:solidFill>
              <a:srgbClr val="595959"/>
            </a:solidFill>
            <a:round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720" spc="-1" strike="noStrike">
                <a:solidFill>
                  <a:srgbClr val="595959"/>
                </a:solidFill>
                <a:latin typeface="Garamond"/>
                <a:ea typeface="Garamond"/>
              </a:rPr>
              <a:t>ADOPT A STATE: N.C.</a:t>
            </a:r>
            <a:endParaRPr b="0" lang="en-US" sz="372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5433840" y="1498680"/>
            <a:ext cx="6400440" cy="4774680"/>
          </a:xfrm>
          <a:prstGeom prst="rect">
            <a:avLst/>
          </a:prstGeom>
          <a:solidFill>
            <a:schemeClr val="lt1"/>
          </a:solidFill>
          <a:ln w="19080">
            <a:solidFill>
              <a:srgbClr val="595959"/>
            </a:solidFill>
            <a:round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North Carolina is critical to flipping the White House -- but they’re also just 6 seats shy of flipping the State House. If we flip the House we can get 500,000 North Carolinian’s access to health care, kick out the trans-phobic legislators, and get teachers a pay rai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Brian Farkas for HD 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2600" spc="-1" strike="noStrike">
                <a:solidFill>
                  <a:srgbClr val="595959"/>
                </a:solidFill>
                <a:latin typeface="Garamond"/>
                <a:ea typeface="Garamond"/>
              </a:rPr>
              <a:t>Frances Jackson for HD 4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oogle Shape;158;p8" descr=""/>
          <p:cNvPicPr/>
          <p:nvPr/>
        </p:nvPicPr>
        <p:blipFill>
          <a:blip r:embed="rId1"/>
          <a:stretch/>
        </p:blipFill>
        <p:spPr>
          <a:xfrm>
            <a:off x="169560" y="3419280"/>
            <a:ext cx="5128920" cy="2854080"/>
          </a:xfrm>
          <a:prstGeom prst="rect">
            <a:avLst/>
          </a:prstGeom>
          <a:ln w="0">
            <a:noFill/>
          </a:ln>
        </p:spPr>
      </p:pic>
      <p:pic>
        <p:nvPicPr>
          <p:cNvPr id="241" name="Google Shape;159;p8" descr=""/>
          <p:cNvPicPr/>
          <p:nvPr/>
        </p:nvPicPr>
        <p:blipFill>
          <a:blip r:embed="rId2"/>
          <a:stretch/>
        </p:blipFill>
        <p:spPr>
          <a:xfrm>
            <a:off x="169560" y="565200"/>
            <a:ext cx="512892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Google Shape;164;p9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Google Shape;165;p9"/>
          <p:cNvSpPr/>
          <p:nvPr/>
        </p:nvSpPr>
        <p:spPr>
          <a:xfrm flipH="1">
            <a:off x="5842800" y="1067400"/>
            <a:ext cx="2787840" cy="27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61600" y="334440"/>
            <a:ext cx="1005804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410" spc="-1" strike="noStrike">
                <a:solidFill>
                  <a:schemeClr val="dk1"/>
                </a:solidFill>
                <a:latin typeface="Garamond"/>
                <a:ea typeface="Garamond"/>
              </a:rPr>
              <a:t>ADOPT A STATE -- NORTH CAROLINA</a:t>
            </a:r>
            <a:br>
              <a:rPr sz="3240"/>
            </a:br>
            <a:endParaRPr b="0" lang="en-US" sz="441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1600" y="1250280"/>
            <a:ext cx="11240640" cy="39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Join the PNW Coalition: Code Blue WA, Indivisible Wallingford, Sister District, Common Purpose, and more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 u="sng">
                <a:solidFill>
                  <a:schemeClr val="hlink"/>
                </a:solidFill>
                <a:uFillTx/>
                <a:latin typeface="Calibri"/>
                <a:ea typeface="Calibri"/>
                <a:hlinkClick r:id="rId1"/>
              </a:rPr>
              <a:t>https://photos.google.com/share/AF1QipMbomUufFAjYwGL8pjlyD9TSImc7V--n6yzq1i-iYnlejtgFIpTjdDjXsV9rhKc9w?key=cnRwNURkMTBPdlQwZkpCMjZPUHNWQWxROV9xMD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Find phone banking opportunities: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sign up at bit.ly/farkasjackson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i="1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(link is case sensitive)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Trips to NC with Common Purpose: 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960" spc="-1" strike="noStrike">
                <a:solidFill>
                  <a:schemeClr val="dk1"/>
                </a:solidFill>
                <a:latin typeface="Garamond"/>
                <a:ea typeface="Garamond"/>
              </a:rPr>
              <a:t>email jgoldwarg@gmail.com</a:t>
            </a:r>
            <a:endParaRPr b="0" lang="en-US" sz="296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0T20:49:49Z</dcterms:created>
  <dc:creator>Gina Topp</dc:creator>
  <dc:description/>
  <dc:language>en-US</dc:language>
  <cp:lastModifiedBy/>
  <cp:revision>0</cp:revision>
  <dc:subject/>
  <dc:title/>
</cp:coreProperties>
</file>